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2E4-CBA0-4E23-9C9B-3AF8717A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C45-EAFC-4CD2-9DFB-DD9DD997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DE9E4-E80A-4954-9EA9-04CCF0F8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B076E-C9AD-4466-8636-683E444E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30594-9A47-417C-84B2-E0AC280B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0837E-E661-4E1A-85B2-9BAC91E6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CCF30-F026-4DE5-951A-D23B08C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3120E-4DBB-48F1-BD71-A46A52B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14350-C62C-4E52-B62A-11CB23C9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7257F-A9CB-4385-9E78-715055A1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923C2-56E7-4CC6-920C-A37A99DC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DF643-532D-422E-9CAC-ECFD3CD2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92C-4D86-474D-A889-C4234367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43665-314C-4BA0-A735-BBFAF3AA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B0202-DEC7-443E-A16A-3C8E9E01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0165C-9D2B-44AF-A7E9-B77A8773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3829C-0FDE-4F2B-BB03-73295C09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61A86-E0FD-470C-8790-1C18BAC1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7BF7B-DF0D-48A6-8A6C-937AFBAF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E9EBE-C6AD-42EE-9798-0D98DCC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8B563-F3BB-4813-85EF-7C04361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A1BED-521A-4FED-9162-439B4C02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E307A-C265-4B88-8D50-CBAFE8B6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FC8-08D1-42E6-A35D-22D34175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D8EAC-CA50-474D-945C-FE2F33F6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CFD6-FD07-424A-A17C-569EE5B8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3DF46-6A44-49AC-B239-63E3F2B8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18126-C3CC-402A-845E-58976355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DFBCD-E519-4E91-BE30-F5C0F942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0A034-EEFA-41F2-B939-DD64A59E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29312-C9E5-4F8F-95A0-8EB230CD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E5432-4B4C-4B5D-B0D0-E19C1747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C0394-A2C3-4080-8E43-F63302C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8F7C0-9FE0-4238-8F07-49CA622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09D3-2DBB-4647-A8D1-2A1461A0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C0CC3-F806-423F-AD15-C9371F94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072EF-1419-4ED7-BBAD-BC247DE8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D9D3C-87F8-4FC2-B639-3AAC489E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22798-A42A-4420-B5B4-E1B7CAB4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5295A-F15A-4FD8-9EB5-958FEF91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80A88-09F1-475A-AAD2-2852AC35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6DA82-7AEB-46A6-B273-499DBBC3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E0757-8A2E-494E-8DB4-A9935ECA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B0572-1A79-4842-9BA4-E857DE28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8B4E9-91BB-4CC5-B4D4-CB536EF4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D406-62AB-4D3F-97AF-2E93BE86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A0E76-808A-4EF8-B2A9-10F9597E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F2103-D8DF-49C6-B299-7081958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003AA-EF95-4CAB-A33F-90DE3F09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741FB-AF07-4CF1-AEDA-F0CBC410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4D9F3-0EEB-4912-8E82-331790FD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8016E-A843-4DAA-B1C1-FF9D0F7E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4321B-4C26-46B4-A09F-F777585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5BBEA-2B75-4AC8-870B-03228394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3E8AB-20AE-4D06-9CD5-0A05AE0B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FC4D0-D479-4541-8334-F78B5244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8AC9-194C-44FE-ABA3-8340EC3A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03D17-16A8-4432-BB79-9696E21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E9EFC-7726-4FB1-B360-800CF1FD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9FB66-A4A5-4D4E-9339-3B470A2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8686A-3D5F-4391-B42A-9E59AEC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AB24D-6AE8-4D46-95E8-70ED910B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34154-A8A9-4A85-B9A2-D980D2BB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F72CA-C208-4407-BA8D-EC0026DC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23976-30AF-45AD-B205-B094C0D8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6E1E3-A90C-43AC-9974-5BC84E21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0DE6E-F71B-428D-AFCA-9722E743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6A91-196C-4D91-9835-2131798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388D3-10D4-456E-8967-0E9E8FA5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E168C-496C-4F31-B252-5B79461C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7DB2E-7EC9-4294-A603-1EBEFF8C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26399-8D45-4314-B241-C7CB6F1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2C4A7-1583-48E9-84D4-AF43832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AC24B-ADB1-4283-9AC0-448B7B1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3458D-1F7E-4E39-A20D-22A5EFD8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4A003-138F-4631-9876-2F6E2895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DA7E1-6DF5-48C0-B46A-076F2104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6CCAC-CF61-4F5A-9C1C-1193F505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0084-F9AA-4EA8-8904-33BB310C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D2EE8-7B55-4A8C-86E2-509A39AB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8C4BC-C7DF-422E-A49B-023201D1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8DC0F-DB67-4B1B-B447-39538D2F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CB903-E817-4372-A871-F7685D3E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C80D0-1AD5-48D2-977A-C2FADA1A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15C14-5395-48F2-B43E-73E2AF6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56919-D7DE-475C-924D-A720B052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63DA7-531E-407E-9362-83758E09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6C8D9-2AAD-487A-85A2-143D5E1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AD887-E07F-4A4E-AE89-D42A2B03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044F-28E1-45C7-81FC-62DD896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3AE08-9D37-4B12-ACD9-077B2FD8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C609A-3726-4832-9AA6-E82A6082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6670C-B3E1-445B-B05F-153CE649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F8F07-8ECF-4E8F-845F-6D15EFEB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43CE6-2281-4823-9F94-0F56497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A93D7-A6E8-4717-9F74-DE9425A3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EB7D8-740B-46E3-B13F-1BED1743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1D0AE-4AEB-46EE-B08E-8A2A120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A31F2-9A85-4712-86D8-B61E6AEC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35B11-99A7-4B78-A80D-BF6E83B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41D7-95F0-460A-BF82-80DD4D2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B6529-0C1C-4E80-87EE-74C0BE2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695B9-84C2-4837-9489-8A58D9BE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ADEEF-2F11-4CA0-839A-966289DF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F658C-B379-4166-A243-6F12EB05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D24C5-49B6-42A5-8676-EEC0C581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6AE4F-69D8-4EB9-A4C3-2C62FD6E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3956F-CD5C-4C70-8A06-5B32778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B7F18-972C-44A2-82FC-B783C255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1379C-D715-4E2C-8101-4B7F96E7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45552-4B4E-40DC-B220-E078419C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53F-F4C4-4B4D-9F8D-E3ECECE9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37B1-B713-44C0-8A10-0145BDF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06A86-BDCD-452C-8DC5-D105EDE4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9AD20-5DC9-4A74-9D3B-E52D48D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D9A50-8081-47FE-88F4-14EED2DD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E9034B-1F30-4418-93C8-32C6D6A0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62789-1A8D-4070-9ADA-94745FF2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DBD3E-E11F-4000-811D-0285A56C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79BE0-C213-4D64-99AC-3498B397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E3AEB2-5B6B-4D2E-B323-23FCAA7D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E74FEE-4FA8-4AE8-9D13-0325226F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E6801-3100-429A-898D-209D42B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DE44-FB24-4CEA-A076-61A3CF07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BBB8F-3243-4319-9160-43F1F1E1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1DCEE9-DECF-416C-9143-8DE00377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38E091-1A47-47B3-8A69-57B813F9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1C837-1813-43F8-AD26-AD876461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3244F3-014C-478E-8EA3-0A9AA9F1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3B4BA-9E5C-49C5-8B36-CE869CE3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86D58-9347-4C56-8D06-8BD8FB62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A8399-0961-464A-B837-28CE0FDD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8B84A-3515-4E16-8539-6005C2FF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20DF3-9814-40A9-A0D3-C1AB18CB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3798-2705-4868-8278-1A8A4DD8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DB609-B087-4F99-B0AE-75315C2E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A0A6C-0EFD-42F2-B6EA-1F90D44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1ECDD0-C70C-41B9-8CD1-2A3287CE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689508-E478-416E-824F-3D211FF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C32791-1C41-4405-84CC-1C0DE4C6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79439-C966-41A5-BEC7-0D94E12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8FCEA-AAF3-4BD0-8E7A-47684216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DA921-C846-4EE8-8CD8-ECF3F9C8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453FD-885D-4A1B-97A3-6AE334E5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7B8D9-63AE-4D0F-97D7-1FED79FB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96FB-5BD6-4AEF-AB46-18B3ABAB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F7CA4E-A6FF-4089-9E63-7C8064E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0EB50-2298-45A0-B80D-FADE634D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54A2BE-9294-4DEB-867B-269E8A1A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8EFD6-6871-4D5D-B710-7498340B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3BB2B6-BF8B-4DAD-B944-40FDEF85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9FE75-5435-4E61-BF84-D7A54842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3E330-365F-4C10-90EF-E2E0AE3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7E32B-BF68-466A-99EC-DB10F326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A59AA-74CB-48ED-90C1-9F263816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B16DF-AAA8-460A-B918-F17D5B74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C7CE-30B3-44D1-9F20-468DEE62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ED7FB9-088D-4711-9440-44F32DCD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4DC1C3-5D2C-464E-A0CE-48E7B035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9AA07A-DECF-4DA6-8D02-0FFE288A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CCC32-A9CC-4038-9F8A-BE87F46B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8CBCD8-7D31-469C-984D-F3370190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D6C786-04CA-415E-B5B1-FE816ED8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E366A-27C9-45F7-BB91-F42BA242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465844-0F1E-47D7-9201-4F7D62E2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57E716-ED79-4C28-B746-4A39AE33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8371C-84AC-4BC8-AB89-11AF669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B6AD-4B70-40EC-AA6D-A62AE54E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6C10D4-2357-4082-895B-3164625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5CE0D-8827-45C8-8892-00A9B775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6D316E-4315-41CD-BB2E-E75D8883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825A-209E-4238-A200-5F4D13FB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4229-35FA-4593-84F2-325CE686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33B7-4CB0-452A-B029-B45877C1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D9CF-3D86-4DD0-A199-ECE895C2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E1C-9C99-4237-9A7B-144539E2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E377-8D7D-4BAA-960D-98C72BA0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71B8-4642-4F3E-A320-5D1BF60F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134A-994A-47BE-9AB3-BD20880B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537D-908C-4B1F-896D-CA29279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110B-D3C9-4B65-B14E-685F1D25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11A1-25B0-43EC-A926-188A2818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370B-30A7-47E8-A82A-A7ECCE7C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7675-F61D-4ABC-8F4B-73EE0EE7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07EB-DA27-4B54-9DCB-A7692849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F2519-D1C8-4963-8A14-B9E7C1F9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E8D-D13C-4BDD-A493-26991FCA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74E66-8E36-48C8-B032-C878C396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B175-E752-4EC5-9C92-F36604C2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2BD9-2810-4BB4-AE35-87C77E72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05C5-CAE5-42A3-AF8F-8AD5B1AC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3F2F-3BB4-4399-86F4-5ADD86DE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1311-7C7B-44BD-B0A7-2F7FA27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203B-BB37-4BE3-9C22-FBFF8183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354F-7A7B-4119-AB6E-FD04C319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E6CD-EBAE-4208-A7FD-7478108B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E748-9A89-44B1-B537-8472CE0E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DA6-0F5E-417E-B9D1-4A8AF919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1526-BE4D-447F-889E-CB0CFA6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F80C-4811-44C2-804E-D3CD78B6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5AEFE-91B5-4D99-B65C-B6841408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076F-C574-4619-A866-93F55D23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DAA8F-BD3A-4E05-983D-8B258FF9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C4F6-1E53-43E5-B24F-2E4B9868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96A6-95B4-45E2-BD29-BE26A69B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C01DD-8B79-46A8-B569-8A4E46AC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DA077-3D82-4A60-BA93-83AB3B53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7633-9C80-447D-8F62-C06246CA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412-7820-450B-9928-56B0189E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778D1-B1BC-4877-AD11-CCFA1069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6484-9279-4BD9-99DD-7A28C70E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C60D8-BFEA-4754-A436-5B078421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C2C1-6FA6-4E57-8618-8AE5B99F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C838-0390-4C28-8293-87D133B8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9FB39-88D6-4145-A03E-36982050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32161-9318-4F35-BCDC-B932986F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01289-EEBE-4CD1-A35E-31CCD9B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7BAAE-3E36-4588-B069-65A5512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BF571-2B16-4515-A1F4-0AA8BC7F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3A1-9724-4DAA-ACFF-8376717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A0424-4963-4754-943B-7842B7F6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3492A-771A-4448-A352-DDE204FE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9249-922C-46CC-9449-D9DFE2F7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4047-BFDD-4A68-B6A1-F09CBFC1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296F-C3CF-414B-958E-A8C4B2E7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21A80-73AC-43A9-AE25-62E4B144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9DF91-B9B3-4FAE-92F8-AF81380C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4DC21-8995-4E5F-AA4D-C7C5C41E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C81AE-2AB6-4D8F-B53A-CC48510C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7C6B0-A26C-4665-AD78-8C3C686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80B-1953-4D0F-8DB5-C3720B9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60B53-D0CD-4653-A549-C33DD166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63E3A-8234-4BA1-9E78-43B47B1A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26B4-F8B9-4FD5-BA14-6CA1BF1A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71F3B-67D2-4C55-AC93-0C2F73A5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D3339-AA3F-4988-B440-434F9EA4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2C2B-2765-4B17-B9F0-F8C16A89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4D5EF-B433-409A-9E8A-4EBCDBD2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00F8E-FDE6-48E2-93D8-F5A76B34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E773B-E963-485E-B5FC-5835A2E4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2C208-9171-4888-9599-5FD5673C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FCD-F08D-4135-93A9-A310010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D2E7E-4A14-476A-931E-08B7C399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B909A-6795-4E95-B6F6-BCD708C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D88C6-9AE4-428D-A7C4-55CED30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3047D-9CE4-4543-B565-85DBF33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AB104-8826-4AE6-A6DE-5CA42CD6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A1DB1-9839-40CE-84C6-F10FA83B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E17B2-E12B-45E8-BB2D-35C87D17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30501-280B-4518-896D-1754054D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EAB0F-641C-4393-B26C-574D1826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8234A-5E03-47D9-9B9A-2EC68813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771C-3453-4FE9-ADF9-C5F9F8CA2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7A0B-83CB-400F-8A17-81DEF3D8AB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6D57-ACE9-41D2-BC4D-0579040459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ECE8-F0FA-43BC-B0D8-BEB842DED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6B12-7B5E-44C8-812F-3271816025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CCD6-6E7E-48B9-B9D6-34B9781F0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884F-577F-4523-93B1-87CEB4F390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F31C-8D0F-4C72-A06A-21D250C6E2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EF34-C5D2-4530-AEB2-79D0B4AC1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04E2-F922-4AAD-9253-DBCF14AFE9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CEA0-B003-45DC-8DE3-3F5D090B86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0D21-C1A4-4DC3-8228-2594EB480D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9DAA-EB0E-4E2D-90BC-83B45371E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14E6-357B-435F-9AC8-A9BD77AEA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2C90-3B6E-41C5-9208-A716028BED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8218-CC5D-4D04-9ADE-CAF4819EB7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F6CB-4803-4DBD-985F-4C04EBC7A6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A178-6554-43F1-8409-1CB96C064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B42F-33EC-410A-9BED-D5C411FE1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B2A8-7EEF-43D3-8D65-89069045E1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AFF3-AC40-4658-BEB9-81C4C677B2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81B4-C1CA-4D2B-8A39-CFF378BDAE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F41-A920-4783-B2D6-687A14790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A0CC-9B77-457D-B60D-4CD8569124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C1F6-CEBF-4D77-8CF8-BFC9D9BBF8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0CDF-E997-4F0F-9CF6-13CB10B65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818A-B417-47C3-ADED-250D96C2D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9333-9F3B-4E14-BAD5-0C9B964A5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F823-EEFE-45CA-A8D3-26CC160540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2772-61A3-45BB-9779-9EF97FFAF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5B8-E2B1-4687-9FDF-7134695386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5B99-5978-43B6-A44B-E261DD0E47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71DC-D938-4EA5-B6D1-CBE43FA199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E95E-466C-4623-928A-8D8D9A983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D4F-416E-46DF-BECC-0D90D026AE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AAC8-CA90-4074-9CE9-388A3ABFEF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8CA1-9609-4201-A39F-56DD014F1F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5FCC-4011-461F-BF11-DAEC34452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BE1E-8D35-4BD5-A128-864C915B19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9CC-0A89-4A98-A7CB-E1A23642B1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104920" y="3057480"/>
            <a:ext cx="49341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38120" y="957240"/>
            <a:ext cx="8267760" cy="494352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139760" y="1820880"/>
            <a:ext cx="2786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1214280" y="2693880"/>
            <a:ext cx="7151760" cy="381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1071720" y="3571920"/>
            <a:ext cx="2500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1143000" y="4429080"/>
            <a:ext cx="4950000" cy="406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6"/>
          <p:cNvSpPr/>
          <p:nvPr/>
        </p:nvSpPr>
        <p:spPr>
          <a:xfrm>
            <a:off x="1214280" y="5357880"/>
            <a:ext cx="5643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47840" y="1066680"/>
            <a:ext cx="8248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380880" y="1290600"/>
            <a:ext cx="8382240" cy="42768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4143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4643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928800" y="507204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286480" cy="561024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1071720" y="857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1071720" y="1785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1071720" y="2214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"/>
          <p:cNvSpPr/>
          <p:nvPr/>
        </p:nvSpPr>
        <p:spPr>
          <a:xfrm>
            <a:off x="1071720" y="3286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"/>
          <p:cNvSpPr/>
          <p:nvPr/>
        </p:nvSpPr>
        <p:spPr>
          <a:xfrm>
            <a:off x="1071720" y="4143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7"/>
          <p:cNvSpPr/>
          <p:nvPr/>
        </p:nvSpPr>
        <p:spPr>
          <a:xfrm>
            <a:off x="1071720" y="51436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"/>
          <p:cNvSpPr/>
          <p:nvPr/>
        </p:nvSpPr>
        <p:spPr>
          <a:xfrm>
            <a:off x="1071720" y="5643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472464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3857760" y="3500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2214720" y="4429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334360" cy="2943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428760" y="3857760"/>
            <a:ext cx="8238960" cy="2371680"/>
          </a:xfrm>
          <a:prstGeom prst="rect">
            <a:avLst/>
          </a:prstGeom>
          <a:ln w="0">
            <a:noFill/>
          </a:ln>
        </p:spPr>
      </p:pic>
      <p:sp>
        <p:nvSpPr>
          <p:cNvPr id="1041" name="矩形 3"/>
          <p:cNvSpPr/>
          <p:nvPr/>
        </p:nvSpPr>
        <p:spPr>
          <a:xfrm>
            <a:off x="1143000" y="14288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1857240" y="32860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7365960" y="4822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514440" y="971640"/>
            <a:ext cx="81151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143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71600" y="1281240"/>
            <a:ext cx="82008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7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